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F0F-5FFF-46DA-8ECC-3A315BF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684-353F-4176-BE4F-6CC14B7E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B6F-704B-420E-BB4D-37DF340E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036-3FE8-497F-99A8-13ADCBE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D0EEC-A594-42D8-B47F-FD75353B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1576E-A269-403A-BCDA-8CB8545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36251-755A-46F9-8A7D-EC056BE8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4E90-6FCA-460D-BA42-BD971321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6BFD6-E7C3-48D8-85D2-161B0C9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E01C-4677-4B0C-AA9D-CAC062BC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8D35B-5D84-47EC-ACCB-67DC8B9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112-64CD-4649-A4F6-01E1028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611DC-8E24-485A-AEE7-0B0CC1D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ECCBD-82F2-482B-9DEE-C44841E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A0490-14B7-4FCA-B38A-0C4BF36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EFB90-4623-44FA-AF21-F4763514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0D4F9-65ED-4E6A-9913-6C203385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ED4F-23A2-4C61-B2DC-D93F46B9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C202-D7B7-4ECE-9B87-CD5A812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FCCC-11C7-4431-AB1F-C951CAE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594E-5BBF-4263-B392-851DC4D5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E32D-CA28-4E2A-9D11-210D852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3A5-66B5-45A6-BA86-13E6480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DACA-FF0A-4B3E-BD33-5A7EC0D6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E299-083B-4EF1-AD82-3694BF1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F010-29D4-4F9A-A0E0-86D5C63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F753-8A8A-429E-8909-D187EA6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896C-8ECF-4B76-A6CD-A436A742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E4DC-C6FD-437B-AD28-A74FF71A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E714-96C7-4146-9725-3C9A48F6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43E0C-0D92-4B7F-9133-323B3C5B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A1C2E-B6D6-4139-B1A3-18E9CE1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32971-C45B-427C-93B6-36F37053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FCE-C73C-4994-ADA0-EFD806C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D73CD-F5E2-4B72-B0C1-61AA715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E4687-1EF4-4FDA-A424-86E47A3B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F99C2-CE4D-4E64-914A-B7D05A13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C2BD0-6579-44BC-85F8-C128DA2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EEDF6-DBBB-41EE-B41E-B5F7629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24602-5F23-4DAA-ABFD-028283BE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99ADB-9C21-4238-8028-E26B592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16751-F6C6-4647-9332-7EE9D56F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B06A3-4A80-44A4-851A-9C751D69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02ED6-17B4-4ED2-AD41-071F073A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8AC-6C08-451C-9109-6842359D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4BF1A-1E3D-481A-A8BA-E6EC0597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96D97-3133-4E5E-9A59-E2EC48A2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33532-DE36-44D4-84CD-FA8AE44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44E6D-27C1-4215-AF4E-EB4BDE3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6BA1F-0465-46FB-925C-BD2DA9DC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F54A7-3432-4AA4-8740-EA3F156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97057-008D-48DE-BCBA-BA495D8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25DBF-CD98-4736-8091-35452CB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3E670-4435-4DAF-97B5-63E03045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73B5B-5A92-4308-9CDA-C900733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1DA-C306-4F8A-B963-1A2CDAB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2C561-B732-4BC8-A0F1-9A64BA7E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6A31A-556C-4552-AC62-5E32386B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CD1A3-F5C2-4D8A-BE8C-871B656E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914F1-2C51-42D7-8D60-59F843F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B321B-133A-4491-92E5-4838590B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F6D91-EF57-4391-A84B-2AB1FE8E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7E01F-DB4A-48CC-AFA9-F046F41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162B3-4BE3-41D7-AEBD-5CC5056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8D8CA-FCE0-495E-BB17-D31BF2D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9EC40-ADDE-4B5C-AC3B-490B53A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1A0-D154-4F99-880A-227B8C6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ACC47-FBF6-4B33-9262-D475A99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60C9F-FA51-4E34-9E25-3F06181A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1A5CD-EAD0-497A-90E7-0E42D03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1BB-94E8-4C95-A935-9849245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FAD-DEB1-4A04-B67C-A3E112F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4585-FCB7-43D1-9BB3-0061B49C423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C03-6648-4D4B-BD8C-D4F9EEA01BD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98B-1B0B-450B-AEE2-A1FD5C82974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A54-5C40-4A38-8FE3-01686B24BC9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8C9-C39B-4F77-B5E7-0953713ECC0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4E9-BD83-4534-ABE2-E2FBC83ECD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aggie Gri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www.vtaide.com/png/images/creeper2.jpg"/>
          <p:cNvPicPr/>
          <p:nvPr/>
        </p:nvPicPr>
        <p:blipFill>
          <a:blip r:embed="rId2"/>
          <a:stretch/>
        </p:blipFill>
        <p:spPr>
          <a:xfrm>
            <a:off x="6094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vtaide.com/png/images/eagle.jpg"/>
          <p:cNvPicPr/>
          <p:nvPr/>
        </p:nvPicPr>
        <p:blipFill>
          <a:blip r:embed="rId3"/>
          <a:stretch/>
        </p:blipFill>
        <p:spPr>
          <a:xfrm>
            <a:off x="26668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http://www.vtaide.com/png/images/curlew.jpg"/>
          <p:cNvPicPr/>
          <p:nvPr/>
        </p:nvPicPr>
        <p:blipFill>
          <a:blip r:embed="rId4"/>
          <a:stretch/>
        </p:blipFill>
        <p:spPr>
          <a:xfrm>
            <a:off x="47242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www.vtaide.com/png/images/spoonbill.jpg"/>
          <p:cNvPicPr/>
          <p:nvPr/>
        </p:nvPicPr>
        <p:blipFill>
          <a:blip r:embed="rId5"/>
          <a:stretch/>
        </p:blipFill>
        <p:spPr>
          <a:xfrm>
            <a:off x="67816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http://www.vtaide.com/png/images/flamingo.jpg"/>
          <p:cNvPicPr/>
          <p:nvPr/>
        </p:nvPicPr>
        <p:blipFill>
          <a:blip r:embed="rId6"/>
          <a:stretch/>
        </p:blipFill>
        <p:spPr>
          <a:xfrm>
            <a:off x="26668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http://www.vtaide.com/png/images/skimmer.jpg"/>
          <p:cNvPicPr/>
          <p:nvPr/>
        </p:nvPicPr>
        <p:blipFill>
          <a:blip r:embed="rId7"/>
          <a:stretch/>
        </p:blipFill>
        <p:spPr>
          <a:xfrm>
            <a:off x="47242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http://www.vtaide.com/png/images/hummingbird.jpg"/>
          <p:cNvPicPr/>
          <p:nvPr/>
        </p:nvPicPr>
        <p:blipFill>
          <a:blip r:embed="rId8"/>
          <a:stretch/>
        </p:blipFill>
        <p:spPr>
          <a:xfrm>
            <a:off x="6094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http://www.vtaide.com/png/images/heron.jpg"/>
          <p:cNvPicPr/>
          <p:nvPr/>
        </p:nvPicPr>
        <p:blipFill>
          <a:blip r:embed="rId9"/>
          <a:stretch/>
        </p:blipFill>
        <p:spPr>
          <a:xfrm>
            <a:off x="26668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http://www.vtaide.com/png/images/woodpecker.jpg"/>
          <p:cNvPicPr/>
          <p:nvPr/>
        </p:nvPicPr>
        <p:blipFill>
          <a:blip r:embed="rId10"/>
          <a:stretch/>
        </p:blipFill>
        <p:spPr>
          <a:xfrm>
            <a:off x="67816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http://www.vtaide.com/png/images/cardinal.jpg"/>
          <p:cNvPicPr/>
          <p:nvPr/>
        </p:nvPicPr>
        <p:blipFill>
          <a:blip r:embed="rId11"/>
          <a:stretch/>
        </p:blipFill>
        <p:spPr>
          <a:xfrm>
            <a:off x="6094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ttp://www.vtaide.com/png/images/merganser.jpg"/>
          <p:cNvPicPr/>
          <p:nvPr/>
        </p:nvPicPr>
        <p:blipFill>
          <a:blip r:embed="rId12"/>
          <a:stretch/>
        </p:blipFill>
        <p:spPr>
          <a:xfrm>
            <a:off x="47242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http://www.vtaide.com/png/images/pelican.jpg"/>
          <p:cNvPicPr/>
          <p:nvPr/>
        </p:nvPicPr>
        <p:blipFill>
          <a:blip r:embed="rId13"/>
          <a:stretch/>
        </p:blipFill>
        <p:spPr>
          <a:xfrm>
            <a:off x="6781680" y="4800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4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The beak has been adapted to assist the bird in its way of feed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www.vtaide.com/png/images/creeper2.jpg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http://www.vtaide.com/png/images/hummingbird.jpg"/>
          <p:cNvPicPr/>
          <p:nvPr/>
        </p:nvPicPr>
        <p:blipFill>
          <a:blip r:embed="rId3"/>
          <a:stretch/>
        </p:blipFill>
        <p:spPr>
          <a:xfrm>
            <a:off x="533520" y="25909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http://www.vtaide.com/png/images/cardinal.jpg"/>
          <p:cNvPicPr/>
          <p:nvPr/>
        </p:nvPicPr>
        <p:blipFill>
          <a:blip r:embed="rId4"/>
          <a:stretch/>
        </p:blipFill>
        <p:spPr>
          <a:xfrm>
            <a:off x="533520" y="4724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2895480" y="6094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n Kreep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 bill that curved downwards used to probe under the bark of trees for insects and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2971800" y="2819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mingbird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hin bill used like a straw that is stuck into flowers to sip on n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2971800" y="4952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inal Grosbea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, stout conical beak used like a nutcracker to open nuts and s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vtaide.com/png/images/eagle.jpg"/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www.vtaide.com/png/images/flamingo.jpg"/>
          <p:cNvPicPr/>
          <p:nvPr/>
        </p:nvPicPr>
        <p:blipFill>
          <a:blip r:embed="rId3"/>
          <a:stretch/>
        </p:blipFill>
        <p:spPr>
          <a:xfrm>
            <a:off x="609480" y="2514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http://www.vtaide.com/png/images/heron.jpg"/>
          <p:cNvPicPr/>
          <p:nvPr/>
        </p:nvPicPr>
        <p:blipFill>
          <a:blip r:embed="rId4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895480" y="6094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gl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strong beak with hooked upper jaw for tearing fl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971800" y="2666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mingo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down curved beak for separating mud and silt from shellfish and algae which it eats. The beak is used upside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2971800" y="47242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n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hick spear like beak, used like a spear stabbing fish, frogs, and shellfish and then lifting them out of the water before eating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http://www.vtaide.com/png/images/curlew.jpg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http://www.vtaide.com/png/images/skimmer.jpg"/>
          <p:cNvPicPr/>
          <p:nvPr/>
        </p:nvPicPr>
        <p:blipFill>
          <a:blip r:embed="rId3"/>
          <a:stretch/>
        </p:blipFill>
        <p:spPr>
          <a:xfrm>
            <a:off x="533520" y="2514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http://www.vtaide.com/png/images/merganser.jpg"/>
          <p:cNvPicPr/>
          <p:nvPr/>
        </p:nvPicPr>
        <p:blipFill>
          <a:blip r:embed="rId4"/>
          <a:stretch/>
        </p:blipFill>
        <p:spPr>
          <a:xfrm>
            <a:off x="533520" y="4495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2895480" y="6094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lew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slender down turned beak for probing the shoreline for worms and other invertebrates that lie buried in the sed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2971800" y="2666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mm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 bill with lower jaw longer than the upper. Skimmers use the lower jaw to scoop up fish from the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297180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ck, Mergans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sieve-like bill for catching fish and draining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8" descr="http://www.vtaide.com/png/images/spoonbill.jpg"/>
          <p:cNvPicPr/>
          <p:nvPr/>
        </p:nvPicPr>
        <p:blipFill>
          <a:blip r:embed="rId2"/>
          <a:stretch/>
        </p:blipFill>
        <p:spPr>
          <a:xfrm>
            <a:off x="609480" y="533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http://www.vtaide.com/png/images/woodpecker.jpg"/>
          <p:cNvPicPr/>
          <p:nvPr/>
        </p:nvPicPr>
        <p:blipFill>
          <a:blip r:embed="rId3"/>
          <a:stretch/>
        </p:blipFill>
        <p:spPr>
          <a:xfrm>
            <a:off x="609480" y="2590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http://www.vtaide.com/png/images/pelican.jpg"/>
          <p:cNvPicPr/>
          <p:nvPr/>
        </p:nvPicPr>
        <p:blipFill>
          <a:blip r:embed="rId4"/>
          <a:stretch/>
        </p:blipFill>
        <p:spPr>
          <a:xfrm>
            <a:off x="60948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2895480" y="6094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onbil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flat bill with a tip like a spoon, used like a shovel sweeping back and forth through shallow waters to shovel small fishes and crustaceans from the mud an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2971800" y="2666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odpeck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sel like beak, used like a drill to bore holes into trees to get to the ins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7180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lican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 bill with a stretchable pouch under it for holding fish caught under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arwin’s Finch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graphicFrame>
        <p:nvGraphicFramePr>
          <p:cNvPr id="292" name="WindowsMediaPlayer1"/>
          <p:cNvGraphicFramePr/>
          <p:nvPr/>
        </p:nvGraphicFramePr>
        <p:xfrm>
          <a:off x="1225440" y="1952640"/>
          <a:ext cx="6923160" cy="37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5440" y="1952640"/>
                    <a:ext cx="6923160" cy="3790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138040" y="601992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l25MBq8T77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7:29:08Z</dcterms:created>
  <dc:creator>arobinson</dc:creator>
  <dc:description/>
  <dc:language>en-US</dc:language>
  <cp:lastModifiedBy> </cp:lastModifiedBy>
  <dcterms:modified xsi:type="dcterms:W3CDTF">2010-01-28T01:22:36Z</dcterms:modified>
  <cp:revision>14</cp:revision>
  <dc:subject/>
  <dc:title>Slide 1</dc:title>
</cp:coreProperties>
</file>